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D2D-9FB9-41DF-A68E-584C1988D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B66-F255-4487-AAF6-051C8C43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5CC8-A4BA-4026-8BAE-ABCF93BAB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CE1B-BA52-4274-95C4-BD703888E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94C-BAA8-49FD-A1D0-DB3E1D202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73E-D5BC-4D58-B22B-586E8956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944-2A6C-4443-BC95-2166546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E8F-187A-47A2-8A07-AD35E19E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2EC-46B1-48BE-87EA-C2E1377B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1AA0-6513-42D1-852A-5DDDDCF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494-95A4-4879-9E68-F5083CA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19C8-3D1D-4105-A0A9-23FAF92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03C-9F0E-4543-BD00-D387BAB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F76B-096C-4B91-A7D4-82CA1BD7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A6B-8131-4825-AF6F-5491D34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2F1C-0387-4426-8D8A-4F2B752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13D-1411-44CB-A7EA-0B842A9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6F20-5E35-45EC-AC7E-B13DE1C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906B-958F-4822-BC2B-43E5F44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47A-51BB-426C-8641-B727ACDD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C72-D99A-4535-AD0A-CD0AF500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6D3-A837-4B04-9163-269500A8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0CE17-51C8-44C0-9435-A81D421B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A749B-3E1A-49D1-B442-9E1BC5D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01876-D7F7-42A9-ACE8-55BEB2A3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B737E-D2B3-41B8-AB45-445EF2AB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83D2F-99A8-4B8A-88F0-687EA67D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E05-8BD8-4286-A84E-71BDA93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45FEE-28AC-4579-8541-6AF439A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15933-27A8-4D90-BEE5-542E214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AB0B8-0C84-4988-A717-0E25E11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546B8-B49B-4953-9C2A-B604576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F862D-7EFE-43BE-8E1C-5CBD931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9BAEC-0A2E-429A-B8DE-20B23C80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53580-C8A2-48D8-81FD-161908EE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AD8B7-F78D-4182-AC8D-A6754A2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CC61B-BE35-45F7-A705-68851DB5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98C8C-6820-4C7C-AA1D-5A1492BD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79C-18E2-4D81-A160-EB5BD22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6339A-22D7-4F6B-8246-76C7079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0FD5D-E40D-4414-8335-A0803D4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3842E-2E6D-42F6-AAC7-BCB10CE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F52C3-CDD9-4C3E-A5C3-CE16AB7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E8EB3-4ACE-4A0E-9A54-0460291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0FC99-18D4-4985-8E52-B6CE7C8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E053A-3A50-40CE-A83E-94BF048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29E33-7483-4DAA-932C-71B1D620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436F8-0C72-4C9E-8EA5-B2191F9F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FFA23-778F-4F24-B211-8E451383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6FC-9764-4175-8B98-A777F20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E69FE-F7BC-42C9-9B63-8C2CA644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6DFC5-E271-4314-A0CF-127C859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A38B6-72CF-483D-BE30-3D3EAFA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660EC-83E0-4244-82B0-989CF5DB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12EEE-279B-46B4-BF33-3981AA3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A33D1-6F91-4016-927A-7BC2411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40EC2-2600-4591-9F9C-07B3839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2E150-8AF9-4B32-AA71-6174AB1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B4B6E-22FB-42C4-AAB8-8566CA6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F3234-D71B-4C1E-907B-7F4C3974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DDA-7578-460C-ABA9-C3897E2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5BEEE-9337-4F55-81CF-B11E16A2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2214-AA36-4B23-A709-D83A2483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5D84-CAE3-4D06-9D8F-E7BA57D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9B25-5701-439D-9D56-8A4FD96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EBE4-0215-4992-A073-B29455F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DBE6-B5D3-4DA0-88F6-DF12018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17F2-FF2C-4AF7-A399-3E60B3E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33B5C-825D-46E6-B42F-34E1E81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596E-C15E-40D5-9C01-67F30985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6C11-C3F9-47CA-A265-05F5EF04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15A-01CD-446F-BFD2-B8EB1EA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F98AD-00C7-45AA-BEBC-02A6708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77EB-79FD-4ED6-AAAC-FE2A1C56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D634-4F8D-4A3E-ADF8-1EB187AE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15DDD-4921-4B79-8DA4-4C001282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01225-0B58-483C-9BF6-85290F8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EAABF-40E0-4635-B80A-25B3784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452F5-E830-470D-A785-25437FD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F5C44-C3A5-49E5-9870-E3B80D3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1BA32-368C-471A-8F1C-89A9313A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E5E7D-EFF9-44DD-9801-1FA4BD2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9C9-DFF2-4800-A0F9-FDD2A11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6BD0A-62EB-4358-86BF-54D25C8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3EA1C-96EC-4087-9E42-5FDA6D0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34CC7-AA7B-4C8E-AD7D-C5F09C4F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B7395-A94A-441F-99A8-2BDA68EF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9B6B6-C7DF-4DA4-BA6D-6926148F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8EF8-1334-45BC-A480-5CA6B174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0E7D3-9343-43AA-82D1-C6A070C6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0BDC-89BF-476B-B20B-E9B65E7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94E1-ED51-4E41-9B9C-22F83B4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AA9C-B6B6-42E2-8ECD-88F56C1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E9C-90C8-493D-965F-6A0A3A9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0ED9-8F4E-4555-A546-CD7CE54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87D9-FDA5-4C62-9AAB-45CE060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A99CE-92C1-4F74-A6EF-FB728CA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C63CC-C007-4292-AB30-68C3976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E274-1FE9-460A-9110-237989D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89F40-6A73-4E94-ACF2-3598D2F6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8024-5910-4FF3-A7FC-E1601AE0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A36-3587-4F4D-AA25-57B73F274D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24E-E2EA-4140-80AB-52833B1E093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989-8BA5-4993-8B0F-EC794B27A85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6A2-FC3F-400D-849B-3618FDBC21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654A-BF10-438A-A5B3-235BAA4D7A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ACA-FF3F-47BC-9403-9CDD905C8FB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F6D-FFA8-42A7-8346-A42132546DB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78F5-B4BD-4ACD-9F27-2E4565EC3C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ports generated would be highly effective decision making to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the ability to customize the reports to fit our nee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7T20:23:05Z</dcterms:modified>
  <cp:revision>8</cp:revision>
  <dc:subject/>
  <dc:title>Slide 1</dc:title>
</cp:coreProperties>
</file>